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B504-E7CF-459D-B344-924658B31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7334-B3BF-45BD-BA50-BF148190F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11EC-E38C-4E40-A415-443DD6C43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32E2-6901-4F0E-9784-5EF7C7E34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9BC7-B278-425A-9028-957C9DEBE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73E2-DAF2-4C0A-BE33-7C56EF869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8006-32F9-4070-B332-8AEA4AD95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6564-EADF-4A38-BEE2-5087DC92C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8F1A-2623-4711-A1FD-DE745DA69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3734-49DE-468B-B85F-F5CF2963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CC88-E4FC-4CFB-A26A-4348612C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9E11-6D24-4337-82AD-644808336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46751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C38CA-0235-4610-8F8B-8E0ACF9E61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46751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ŚWIADCZENI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6761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danie substanc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243828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 suchej probówce umieszczono cukier, następnie probówkę ogrza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90720" y="2895480"/>
            <a:ext cx="2830320" cy="3657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267080" y="3124080"/>
            <a:ext cx="403884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wacje:……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niosek:…………………………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46751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0492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bserwacj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a ściankach probówk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jawiły się kropelki cieczy a na dni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ówki powstała czarna substanc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niosek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d wpływem ogrzewania cuki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ę rozłożył. Powstały substancj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stsz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kier jest substancją złożoną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zyli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WIĄZKIEM CHEMICZNY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46751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ŚWIADCZENI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danie substanc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27432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 probówce umieszczono siarkę, ogrzewano ją, a następnie ostudzo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38080" y="3352680"/>
            <a:ext cx="3886200" cy="30304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800600" y="4038480"/>
            <a:ext cx="35053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wacje:……………………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nioski:………………………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46751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80880" y="609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bserwacje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grzana siarka zmienia tylk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 skupienia. Nie powstaje inn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tanc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niosek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arka to substancja prosta, której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e da się rozłożyć na substancj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ts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ie substancje nazywam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IERWIASTKAM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100000">
              <a:srgbClr val="46751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457200" y="817560"/>
            <a:ext cx="8381520" cy="5292360"/>
            <a:chOff x="457200" y="817560"/>
            <a:chExt cx="8381520" cy="5292360"/>
          </a:xfrm>
        </p:grpSpPr>
        <p:cxnSp>
          <p:nvCxnSpPr>
            <p:cNvPr id="54" name="_s9261"/>
            <p:cNvCxnSpPr>
              <a:stCxn id="55" idx="1"/>
              <a:endCxn id="56" idx="2"/>
            </p:cNvCxnSpPr>
            <p:nvPr/>
          </p:nvCxnSpPr>
          <p:spPr>
            <a:xfrm rot="10800000">
              <a:off x="3747960" y="3307320"/>
              <a:ext cx="299880" cy="625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" name="_s9259"/>
            <p:cNvCxnSpPr>
              <a:stCxn id="58" idx="1"/>
              <a:endCxn id="59" idx="2"/>
            </p:cNvCxnSpPr>
            <p:nvPr/>
          </p:nvCxnSpPr>
          <p:spPr>
            <a:xfrm rot="10800000">
              <a:off x="2552040" y="4241160"/>
              <a:ext cx="298080" cy="1557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0" name="_s9257"/>
            <p:cNvCxnSpPr>
              <a:stCxn id="61" idx="1"/>
              <a:endCxn id="59" idx="2"/>
            </p:cNvCxnSpPr>
            <p:nvPr/>
          </p:nvCxnSpPr>
          <p:spPr>
            <a:xfrm rot="10800000">
              <a:off x="2552040" y="4241160"/>
              <a:ext cx="298080" cy="623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2" name="_s9255"/>
            <p:cNvCxnSpPr>
              <a:stCxn id="59" idx="1"/>
              <a:endCxn id="63" idx="2"/>
            </p:cNvCxnSpPr>
            <p:nvPr/>
          </p:nvCxnSpPr>
          <p:spPr>
            <a:xfrm rot="10800000">
              <a:off x="1354680" y="3307320"/>
              <a:ext cx="299880" cy="625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4" name="_s9253"/>
            <p:cNvCxnSpPr>
              <a:stCxn id="65" idx="0"/>
              <a:endCxn id="66" idx="2"/>
            </p:cNvCxnSpPr>
            <p:nvPr/>
          </p:nvCxnSpPr>
          <p:spPr>
            <a:xfrm flipV="1" rot="16200000">
              <a:off x="7261560" y="2006280"/>
              <a:ext cx="311760" cy="1046520"/>
            </a:xfrm>
            <a:prstGeom prst="bentConnector3">
              <a:avLst>
                <a:gd name="adj1" fmla="val 3745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7" name="_s9251"/>
            <p:cNvCxnSpPr>
              <a:stCxn id="68" idx="0"/>
              <a:endCxn id="66" idx="2"/>
            </p:cNvCxnSpPr>
            <p:nvPr/>
          </p:nvCxnSpPr>
          <p:spPr>
            <a:xfrm flipH="1" flipV="1" rot="5400000">
              <a:off x="6213960" y="2005560"/>
              <a:ext cx="311760" cy="1048320"/>
            </a:xfrm>
            <a:prstGeom prst="bentConnector3">
              <a:avLst>
                <a:gd name="adj1" fmla="val 3745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9" name="_s9249"/>
            <p:cNvCxnSpPr>
              <a:stCxn id="56" idx="0"/>
              <a:endCxn id="70" idx="2"/>
            </p:cNvCxnSpPr>
            <p:nvPr/>
          </p:nvCxnSpPr>
          <p:spPr>
            <a:xfrm flipV="1" rot="16200000">
              <a:off x="2993760" y="1930320"/>
              <a:ext cx="311760" cy="1198080"/>
            </a:xfrm>
            <a:prstGeom prst="bentConnector3">
              <a:avLst>
                <a:gd name="adj1" fmla="val 3745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1" name="_s9247"/>
            <p:cNvCxnSpPr>
              <a:stCxn id="63" idx="0"/>
              <a:endCxn id="70" idx="2"/>
            </p:cNvCxnSpPr>
            <p:nvPr/>
          </p:nvCxnSpPr>
          <p:spPr>
            <a:xfrm flipH="1" flipV="1" rot="5400000">
              <a:off x="1797120" y="1931400"/>
              <a:ext cx="311760" cy="1196280"/>
            </a:xfrm>
            <a:prstGeom prst="bentConnector3">
              <a:avLst>
                <a:gd name="adj1" fmla="val 3745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" name="_s9242"/>
            <p:cNvCxnSpPr>
              <a:stCxn id="66" idx="0"/>
              <a:endCxn id="73" idx="2"/>
            </p:cNvCxnSpPr>
            <p:nvPr/>
          </p:nvCxnSpPr>
          <p:spPr>
            <a:xfrm flipV="1" rot="16200000">
              <a:off x="5652000" y="508320"/>
              <a:ext cx="311760" cy="2173680"/>
            </a:xfrm>
            <a:prstGeom prst="bentConnector3">
              <a:avLst>
                <a:gd name="adj1" fmla="val 3722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4" name="_s9241"/>
            <p:cNvCxnSpPr>
              <a:stCxn id="70" idx="0"/>
              <a:endCxn id="73" idx="2"/>
            </p:cNvCxnSpPr>
            <p:nvPr/>
          </p:nvCxnSpPr>
          <p:spPr>
            <a:xfrm flipH="1" flipV="1" rot="5400000">
              <a:off x="3480120" y="510120"/>
              <a:ext cx="311760" cy="2170800"/>
            </a:xfrm>
            <a:prstGeom prst="bentConnector3">
              <a:avLst>
                <a:gd name="adj1" fmla="val 3722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3" name="_s9237"/>
            <p:cNvSpPr/>
            <p:nvPr/>
          </p:nvSpPr>
          <p:spPr>
            <a:xfrm>
              <a:off x="3823200" y="817560"/>
              <a:ext cx="1796400" cy="622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ter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9238"/>
            <p:cNvSpPr/>
            <p:nvPr/>
          </p:nvSpPr>
          <p:spPr>
            <a:xfrm>
              <a:off x="1652760" y="1751400"/>
              <a:ext cx="1796400" cy="622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UBSTANCJ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9239"/>
            <p:cNvSpPr/>
            <p:nvPr/>
          </p:nvSpPr>
          <p:spPr>
            <a:xfrm>
              <a:off x="5994000" y="1751400"/>
              <a:ext cx="1796400" cy="622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IESZANIN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9246"/>
            <p:cNvSpPr/>
            <p:nvPr/>
          </p:nvSpPr>
          <p:spPr>
            <a:xfrm>
              <a:off x="457200" y="2685240"/>
              <a:ext cx="1796400" cy="622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S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9248"/>
            <p:cNvSpPr/>
            <p:nvPr/>
          </p:nvSpPr>
          <p:spPr>
            <a:xfrm>
              <a:off x="2850480" y="2685240"/>
              <a:ext cx="1796400" cy="622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ZŁOŻO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9250"/>
            <p:cNvSpPr/>
            <p:nvPr/>
          </p:nvSpPr>
          <p:spPr>
            <a:xfrm>
              <a:off x="4946400" y="2685240"/>
              <a:ext cx="1796400" cy="622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JEDNOROD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9252"/>
            <p:cNvSpPr/>
            <p:nvPr/>
          </p:nvSpPr>
          <p:spPr>
            <a:xfrm>
              <a:off x="7042320" y="2685240"/>
              <a:ext cx="1796400" cy="622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IEJEDNOROD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9254"/>
            <p:cNvSpPr/>
            <p:nvPr/>
          </p:nvSpPr>
          <p:spPr>
            <a:xfrm>
              <a:off x="1654560" y="3619440"/>
              <a:ext cx="1794600" cy="622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IERWIASTK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HEMICZ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9256"/>
            <p:cNvSpPr/>
            <p:nvPr/>
          </p:nvSpPr>
          <p:spPr>
            <a:xfrm>
              <a:off x="2850480" y="4553280"/>
              <a:ext cx="1793880" cy="622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ETA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9258"/>
            <p:cNvSpPr/>
            <p:nvPr/>
          </p:nvSpPr>
          <p:spPr>
            <a:xfrm>
              <a:off x="2850480" y="5487480"/>
              <a:ext cx="1793880" cy="622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IEMETA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9260"/>
            <p:cNvSpPr/>
            <p:nvPr/>
          </p:nvSpPr>
          <p:spPr>
            <a:xfrm>
              <a:off x="4048200" y="3619440"/>
              <a:ext cx="1793880" cy="622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ZWIĄZK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HEMICZ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4T19:12:12Z</dcterms:created>
  <dc:creator>Toshiba</dc:creator>
  <dc:description/>
  <dc:language>en-US</dc:language>
  <cp:lastModifiedBy>Toshiba</cp:lastModifiedBy>
  <dcterms:modified xsi:type="dcterms:W3CDTF">2013-04-14T19:47:2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